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C1B-4959-4832-B3DD-9D52A854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0B3-2AB7-44D9-821C-67ACB169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96A-9857-46CE-8A17-D1D179CE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CF0-7FF3-4F6C-B5EF-E1240D7D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0C17-C7FB-47CC-B7DA-3E055174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C0C0-ECFC-4082-8144-933832BD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D9ED-58C3-4A41-9871-981C69C5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B240-214D-4C74-9045-1E905163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8D15-AD9F-4A09-A659-9ABBC35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51EF-B447-4CB1-AED8-3E9F337B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866-A987-4287-8221-CE4D178F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665-ECE0-41B4-82B4-940CD6A1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F143-4C1E-4756-BAAF-D6A4B76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7815-DFE0-4D2E-90C9-92A05CD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DC8E-C840-467E-9A17-2ED46BC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7C52-C8B1-43D1-8536-03DA42C2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C41-247E-4998-A217-2113F417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B9B-B5CB-4587-B9BE-A9DA3D4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9D9-6EC4-4A1A-AD8E-0D41CD6C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2C6-18FC-449C-8925-2AF4CE75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9B8-862C-4076-BB51-DE723F00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142-9333-49A4-B96B-62D79C4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6A4-D757-431C-875C-03C77EB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523-3D68-4997-B9AE-F1898CF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605E-4303-4AD8-8DE9-C570DAF514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7C8-4CBE-412A-8D6A-EA40EB3A87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OPEN HOUSE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42520" y="2895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chool Name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ate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Handout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ranslate handouts for parents for whom English is a second language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Handouts might includ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school phone numbers, e-mail addresses, and Web site address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Copies of classroom and school polici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materials that children will need fo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Welcome Parents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Welcome parents to your classroom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List the goals for the open hous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help parents understand the work their child will be doing throughout the school ye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explain your expectations of their chil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share information about how parents can support their child’s learning.</a:t>
            </a: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urriculum Goal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what the students will study during the school year, including the overall curriculum plans and goal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clude a detailed, colorful syllabus for parents to take hom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uggest ways that parents can help their child learn, such as reading together for 20 minutes a day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Use more than one slide to cover this information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In-Class Activity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827360"/>
            <a:ext cx="731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vite parents to take part in an activity, and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hen discuss it. Some ideas include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olving a math problem, such as estimating the number of beans in a j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Writing an encouraging letter to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Going on a classroom scavenger hunt for their child's work, the books their child likes best, and messages from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Information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students will be evaluated and grade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ell parents when report cards and progress reports will be sent hom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the amount of homework students can expect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a calendar of upcoming events, such as class field trips and parent-teacher conference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Rul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82320" y="1964880"/>
            <a:ext cx="6502680" cy="37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Explain the behavior you expect in your classroom. 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Your class rules might include: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ectfu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onsible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Follow directions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unctua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organiz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a self-starter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repar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School Polici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the school addresses academic and behavioral problem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Outline the school's policies regarding tardiness, absence, and disciplin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policy information about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School cancellations for bad weather and other reasons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Emergency procedur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Transportation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After-school activiti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Volunteering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Get Involved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List opportunities for parents to become involved in volunteer programs, advisory councils, and the PTA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sign-up sheets for parents who are interested in helping to plan parties or special projects for you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Questions?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ake questions from parents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Ask parents to fill out a questionnaire about their child.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areas in which they would like to see their child improv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their child's personality, interests, and talent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4:23:45Z</dcterms:created>
  <dc:creator>Bonnie Ritchey</dc:creator>
  <dc:description/>
  <dc:language>en-US</dc:language>
  <cp:lastModifiedBy>Bonnie Ritchey</cp:lastModifiedBy>
  <dcterms:modified xsi:type="dcterms:W3CDTF">2005-01-01T14:24:01Z</dcterms:modified>
  <cp:revision>1</cp:revision>
  <dc:subject/>
  <dc:title>OPEN HO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33</vt:lpwstr>
  </property>
</Properties>
</file>